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065-164C-445A-B5D5-EE6ABC4246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9DC3-4370-49B2-98A5-5F802C896A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820-D82E-42AF-9C08-02914FF57F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69DE-6B2E-4157-A1FE-06303B5F4A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an chronolog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aborde les notions dans l’ordre de leur déroulement. Ex: les risques: surface, mise à l’eau, descente…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an analytiqu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traite les différents aspects liés à un même thème. Ex: phase de remontée: risques SP, vitesse, déco, palier…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an déductif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part de l’idée générale pour aboutir au fait particulier. Ex: les baro à la descente: pression, Mariotte, les cavités du corps…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an comparatif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analyse comparatif: avantages/inconvénients, ressemblances/différences…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9BBB-9BD1-4EA9-84AD-DAB73DD934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retien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0% de ce qu'on en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0% de ce qu'on v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0% de ce qu'on entend et v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0% de ce qu'on établit par soi mê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F34-8179-4B5A-BA90-7AF8A142D1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6C39-3F9C-4E9C-88D0-B51F940914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46F1-855B-4546-BC0A-5089E17DC0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1F5E-9B0D-4300-A628-FCE4010851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5BCC-4339-4763-8A2C-8BB50B4E06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AE9C-B345-4457-8AC3-C5917AE0E3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184-B718-4D47-94A9-0F7DE8CF47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5083-A275-4C82-BDC2-EA7348B2CC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AC37-43B2-4799-BBD3-948F3A3169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MFT, on parle de Connaissances en appui des Compé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B986-A61D-4258-A771-B02CAC3E84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limiter le contenu grâce à la logique prérogatives / compé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9ADA-1213-4410-B0A5-9FC464050E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0204-1F58-408B-98A8-1513EF12A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BED5-4D34-4DA7-A24B-3FC49C287F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917-835E-4AD2-882C-A2BB498151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61DF-BAAC-489B-87A4-F80691C7CA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25F3-9E44-4AA2-A139-B45F9E41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76D6-D661-40CB-9795-8E232D54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864F7-38FB-4BE5-802B-15FA5BE4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955CA-F086-4DB6-9FCC-79B9594A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9F383-B8B4-44D1-B22A-0E7A977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33E4D-758C-42B5-A71F-F5C7E18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D265F-306A-49EA-AF54-41DA83C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4D2A9-65BF-4D4A-AEB7-B1F6DD7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86BAE-D127-44E4-A23A-6F7A477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15199-6F61-44C8-921C-1391179F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01740-6A49-464C-8E7D-8654240C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8519-7853-495C-AFC7-0B13A3C9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B481-B008-4F31-AD3D-E295219D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CD79-D23C-4F66-82EE-23781EBB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C32D8-8030-45D1-B95D-DE106F81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3BF3-6E4E-4900-B7F4-300EED21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5E875-EC50-4958-B53A-11766E3A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3452-9212-48DE-AB64-9F068ADC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5B9A2-B0FA-4EA3-93B1-7D100C1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73AE9-AD7A-4188-AA93-21890033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1793-FF9F-4AD6-B3B2-6FC87604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B6871-FC27-40F3-A83B-56A32E5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8452A-E4C3-411E-8584-CD5EEE2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135E9-A7F5-420C-81CC-8B241E1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A2569-FE31-4EA9-AA6E-6BD8F781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1C919-FBD1-46A6-8D90-A9D0C9C5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B991B-B8C8-452E-9CCB-6A8691CA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BBDB9-6F0E-4E52-A612-C3D809A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DEF44-891B-4C6F-99D3-62708FF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1D552-19E1-41AF-87FF-B1F5218F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14BEF-FBCD-47A8-8E65-77B164C3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79D7-C388-4416-AA79-565AD5D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6F398-733B-4413-9019-AA752B3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FEB1E-87A5-445A-9C1B-A43D537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12872-AB5B-4C25-AB45-44AD98F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58956-0B41-4580-AA6E-506E8EC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10494-C4A9-440E-86A0-330DEF2C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FD37A-63AC-4F3F-903A-C5AB38D4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FEC5E-AA23-442F-9DBC-E0BA5ED8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3E77D-7924-47D6-93F5-C14E7C8E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1E923-C7F3-4397-BD75-BF496C28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73CED-AC76-4BA3-BAF6-6164111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8E3C-98DB-4D90-864A-DBB6FC88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978C0-1C7E-45A8-A2A9-EB1674F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AA484-9001-48CB-9EEE-767B45F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B0B0B-CDDF-452C-8CBD-DD0B97B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D61E9-7C5D-4BEB-A925-26D19AA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F31E6-A9BF-4B3D-9DC2-2C51B83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85B137-CD95-4260-AABD-FDA2EB1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837B8-4E0B-4C40-A6C8-04EF6D1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01FCA1-7C9E-4759-A449-81A37C28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4D6E9-B23E-4760-BEB5-F9B32215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B637C1-2CDF-45EE-AA02-D62415B4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F0D6-4E8F-405A-B9D1-E7E92F9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F9919-3C54-4C9A-942B-526A933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93EAF3-3F14-48D9-AD13-52849D84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384E3F-0FB2-46EC-B7CE-11525E0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DECB8E-4510-4B5C-8743-8F4EAF1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04F456-3C8A-46C3-8790-17511258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02ACF-FA7B-4E8C-A796-3B900833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F5FE1D-15E7-4D54-B076-0CD2114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47E1A-F563-4DEF-891A-B6F1EC32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399B9-E260-4640-91F4-E3D66DB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3A771-3BD2-4AEF-A0D6-31A47A31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3748-A690-4240-9AD2-93F4062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15A51-8242-42C2-B1F2-59EBD772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9530F-1A8C-4E1D-A447-37CDA7D2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52653F-AF02-47A4-9AEC-AC3DCE46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0B7AFF-0A23-441F-82D0-8E6A6B6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49054E-0EB1-4503-9E17-E75929B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EFDF9-5A9C-4D46-896F-0E87C21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E9C28-FECC-40F3-827B-8B104C69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2DAC9-4464-47E9-A596-4C17067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7F38A-C1E4-46AB-A2FF-0118A5B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4BB25-C63C-4038-B5DB-2E5939A0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5A6A-04F5-4704-9013-2AA10F5B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7A7B4-D9B0-4F48-8738-F27DDE30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B84C1F-710C-47EA-83A8-464295AF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22F24E-0810-4481-A781-27BFF680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35CC59-D7ED-4640-BFC5-C4551421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E6D306-0F33-41C4-9191-BC92676A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187A4C-5E43-48B5-A30B-21DD960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6A055-5F72-4C74-89E4-A92CEFC5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F122F1-EFD7-4210-A9FC-7940957B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0BAAA-A4DB-4A3D-B950-B4111E7C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28C32A-301F-4991-B97B-FD3D923E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8972-D794-43DB-98A5-C9D2470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6349B9-63D6-43AD-A442-61CF461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98DD4B-D248-4E27-8D08-1168C017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D83A4-A724-4513-9246-651D9618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6EA57F-147B-477D-8D13-B84716B5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0D57C-7BCA-4C54-96A1-259C1B1D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A6DB5-91E6-47C5-9555-18913E9D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0198A-9E75-426D-88A3-F9AF17D4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FE72F-E151-4B68-A637-C54EC56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18D84-6A1F-460A-AC4F-3ACB11D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41F1AD-C7E2-4A19-AD18-069520B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31D4-EE25-45D0-8F78-A7FD8A6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43B1F-DB71-438B-A778-EE00DC80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303B3-7051-46E8-B70C-64D796AE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51372-D0D7-4016-B7B6-066A90B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DAC188-CE8E-4B62-B93D-3306CAA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AE6062-4130-48AE-BDF6-130249A5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7C2CBF-325A-42E8-B075-6812DB78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22BB7-9E8C-487E-B01C-66DF7988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95782-E03A-4BF9-812A-2238B873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EB4F7-3D2B-473B-B3D3-CE20FA1C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9596F-6660-4907-B8E1-00850F10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F240-FBD8-49EA-8D52-90327FE5BF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6974-1F76-4899-AD0A-446B28CB5D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5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7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0480-9D86-4F62-8235-0A512DACD2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8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0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F8C-B6EA-472D-90FD-1A589CEBEBA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1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3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63B3-36AF-4A12-B93E-04669829EE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4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5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6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8461-6F8C-4298-A333-5B8A70EAA3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7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8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9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6632-4056-41B4-A5D0-BA4545860A2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dt" idx="20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21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22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8C7-416E-4FB1-B2D1-DE909DE927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dt" idx="23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4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7"/>
          <p:cNvGraphicFramePr/>
          <p:nvPr/>
        </p:nvGraphicFramePr>
        <p:xfrm>
          <a:off x="8101080" y="189000"/>
          <a:ext cx="8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01080" y="189000"/>
                    <a:ext cx="8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5"/>
          </p:nvPr>
        </p:nvSpPr>
        <p:spPr>
          <a:xfrm>
            <a:off x="7451280" y="6237000"/>
            <a:ext cx="107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4DF2-43A2-4887-A7F8-2B574772E1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dt" idx="26"/>
          </p:nvPr>
        </p:nvSpPr>
        <p:spPr>
          <a:xfrm>
            <a:off x="385560" y="6237000"/>
            <a:ext cx="23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058920" y="6237000"/>
            <a:ext cx="41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5"/>
          <p:cNvGraphicFramePr/>
          <p:nvPr/>
        </p:nvGraphicFramePr>
        <p:xfrm>
          <a:off x="6583320" y="0"/>
          <a:ext cx="25606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3320" y="0"/>
                    <a:ext cx="25606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MPLÉMENT DE FORMATION INITIATEUR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TAGE POUR L’OBTENTION DE L’UC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476360" y="6308640"/>
            <a:ext cx="6400800" cy="4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rganisé par le CoDep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oneTexte 4"/>
          <p:cNvSpPr/>
          <p:nvPr/>
        </p:nvSpPr>
        <p:spPr>
          <a:xfrm>
            <a:off x="11520" y="-27000"/>
            <a:ext cx="1832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Version original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USSARAT Lucien / 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Version 2012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TRAMOY Fabien / 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RANCOIS Jean-Brice / M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Version 2014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TRAN Jean / M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Version 2016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RANCOIS Jean-Brice/ M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TRAN Jean / M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WordArt 4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429760" cy="518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7770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Arial"/>
              </a:rPr>
              <a:t>Elaboration d’une formation thé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95280" y="1484280"/>
          <a:ext cx="8229600" cy="4824360"/>
        </p:xfrm>
        <a:graphic>
          <a:graphicData uri="http://schemas.openxmlformats.org/drawingml/2006/table">
            <a:tbl>
              <a:tblPr/>
              <a:tblGrid>
                <a:gridCol w="2243160"/>
                <a:gridCol w="598644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i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f spécifique (thème), </a:t>
                      </a: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délimitation du contenu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prérogatives, MFT, CD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quoi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Justifications: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érogatives, compétences, prévention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: </a:t>
                      </a: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Acquis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otivations, culture, niveau d'instructio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d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Prérequis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ogression, place dans le cursus: début, milieu, fi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ù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Sall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quai, sur le bateau, bord piscin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en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Nombr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séances, </a:t>
                      </a: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duré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 cours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Progression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édagogique au sein d’une sé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7770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Arial"/>
              </a:rPr>
              <a:t>Elaboration d’une formation thé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95280" y="1484280"/>
          <a:ext cx="8424720" cy="4903920"/>
        </p:xfrm>
        <a:graphic>
          <a:graphicData uri="http://schemas.openxmlformats.org/drawingml/2006/table">
            <a:tbl>
              <a:tblPr/>
              <a:tblGrid>
                <a:gridCol w="2376360"/>
                <a:gridCol w="6048360"/>
              </a:tblGrid>
              <a:tr h="16318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601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Types de plans: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ologique, analytique, déductif (classique), comparatif, transver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1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601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Méthodes pédagogiques: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istrale, interactive, découvert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18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601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Moyens pédagogiques: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au, vidéoprojecteur, schémas, vidéos, planches, éclatés, matériels, couleur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8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0720" indent="-450720">
                        <a:spcBef>
                          <a:spcPts val="601"/>
                        </a:spcBef>
                        <a:buClr>
                          <a:srgbClr val="00999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Evaluation: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e (feedback, Q/R), écrite (examen, QCM), initiale, en continue, final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213336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7770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Arial"/>
              </a:rPr>
              <a:t>Elaboration d’une formation thé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24000" y="1557360"/>
          <a:ext cx="8496000" cy="4457520"/>
        </p:xfrm>
        <a:graphic>
          <a:graphicData uri="http://schemas.openxmlformats.org/drawingml/2006/table">
            <a:tbl>
              <a:tblPr/>
              <a:tblGrid>
                <a:gridCol w="1368360"/>
                <a:gridCol w="1143000"/>
                <a:gridCol w="812880"/>
                <a:gridCol w="887400"/>
                <a:gridCol w="1077840"/>
                <a:gridCol w="1604880"/>
                <a:gridCol w="1601640"/>
              </a:tblGrid>
              <a:tr h="822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Méthode pédagog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Form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Élè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Efficac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A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Inconvén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Magistr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ss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édioc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oire impor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mogè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ravail de l'élè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Intera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v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oire réd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Découv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ès 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ès b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-évaluation immé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paration lo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A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ss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ès 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ès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ès b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richissementmu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se en route lo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61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Rappel :</a:t>
            </a:r>
            <a:br>
              <a:rPr sz="3600"/>
            </a:b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Plan de cours de Phys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stification du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pp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é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noncé de la loi, formule, ex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lications à la plo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rcices d’application simples (é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 / A re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chain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175572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89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Rappel :</a:t>
            </a:r>
            <a:br>
              <a:rPr sz="3600"/>
            </a:b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Plan de cours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stification du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pp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canisme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suivant le nivea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ptô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uite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 / A re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chain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209736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gression pédag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séance de théorie se place de manière cohérente au sein de la progression pédagogique glob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peut être un prérequis avant des séances pr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: Mariotte &amp; Archimède avant l’équilibrage au nivea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rogression pédagogique existe aussi au sein d’une séance de théo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e situation simple vers une situation compliquée avec progress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: Physique – Mariotte au niveau IV, débuter par des exercices simples ( par exemple consommation ) avant de faire des exercices compliqués ( station de gonflage, etc…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7451640" y="6237360"/>
            <a:ext cx="107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824E-EF6E-495D-9A9D-6A7601DA75B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e la date 4"/>
          <p:cNvSpPr/>
          <p:nvPr/>
        </p:nvSpPr>
        <p:spPr>
          <a:xfrm>
            <a:off x="385920" y="6237360"/>
            <a:ext cx="238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UC10 avec le CoDep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Espace réservé du pied de page 5"/>
          <p:cNvSpPr/>
          <p:nvPr/>
        </p:nvSpPr>
        <p:spPr>
          <a:xfrm>
            <a:off x="3059280" y="6237360"/>
            <a:ext cx="410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ersion 2016   FRANCOIS Jean-B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Image 9" descr=""/>
          <p:cNvPicPr/>
          <p:nvPr/>
        </p:nvPicPr>
        <p:blipFill>
          <a:blip r:embed="rId1"/>
          <a:stretch/>
        </p:blipFill>
        <p:spPr>
          <a:xfrm>
            <a:off x="468360" y="369720"/>
            <a:ext cx="3456000" cy="3319560"/>
          </a:xfrm>
          <a:prstGeom prst="rect">
            <a:avLst/>
          </a:prstGeom>
          <a:ln w="0">
            <a:noFill/>
          </a:ln>
        </p:spPr>
      </p:pic>
      <p:pic>
        <p:nvPicPr>
          <p:cNvPr id="446" name="ZoneTexte 7" descr=""/>
          <p:cNvPicPr/>
          <p:nvPr/>
        </p:nvPicPr>
        <p:blipFill>
          <a:blip r:embed="rId2"/>
          <a:stretch/>
        </p:blipFill>
        <p:spPr>
          <a:xfrm>
            <a:off x="609480" y="974880"/>
            <a:ext cx="7905960" cy="5078160"/>
          </a:xfrm>
          <a:prstGeom prst="rect">
            <a:avLst/>
          </a:prstGeom>
          <a:ln w="0">
            <a:noFill/>
          </a:ln>
        </p:spPr>
      </p:pic>
      <p:pic>
        <p:nvPicPr>
          <p:cNvPr id="447" name="Image 8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304488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143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Exercices</a:t>
            </a:r>
            <a:br>
              <a:rPr sz="3600"/>
            </a:b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PEDAGOGIE THEO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ème 1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2 / Compressibilité des g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ème 2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2 / L’essouff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ous disposez de 30 minutes pour préparer ces 2 thèm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5 minutes pour prés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4"/>
          <p:cNvSpPr txBox="1"/>
          <p:nvPr/>
        </p:nvSpPr>
        <p:spPr>
          <a:xfrm>
            <a:off x="611280" y="1125360"/>
            <a:ext cx="8070840" cy="532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808080">
                      <a:alpha val="33000"/>
                    </a:srgbClr>
                  </a:outerShdw>
                </a:effectLst>
                <a:latin typeface="Arial Black"/>
              </a:rPr>
              <a:t>Construction d’une séance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80808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808080">
                      <a:alpha val="33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808080">
                      <a:alpha val="33000"/>
                    </a:srgbClr>
                  </a:outerShdw>
                </a:effectLst>
                <a:latin typeface="Arial Black"/>
              </a:rPr>
              <a:t>de formation pratique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80808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82296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179280" y="1268280"/>
          <a:ext cx="8856720" cy="5224680"/>
        </p:xfrm>
        <a:graphic>
          <a:graphicData uri="http://schemas.openxmlformats.org/drawingml/2006/table">
            <a:tbl>
              <a:tblPr/>
              <a:tblGrid>
                <a:gridCol w="1932120"/>
                <a:gridCol w="3260880"/>
                <a:gridCol w="3663720"/>
              </a:tblGrid>
              <a:tr h="447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E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60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6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eil + Présentation du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enseignement dans la zone 0 – 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lier pédagogie pratique en s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 dans la fo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6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ion diagnostique (corre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nsmission des connaissances théor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elier pédagogie théorique en s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plication dans la fo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6d"/>
                    </a:solidFill>
                  </a:tcPr>
                </a:tc>
              </a:tr>
              <a:tr h="47772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ES-MI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2226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ppels de rég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lier pédagogie pratique en s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 dans la fo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2226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vail sur la transvers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lier pédagogie pratique en s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 dans la fo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2226d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Exerc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ème 1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2 / Remédiation pour un élève qui éprouve des difficultés à réaliser une assistance gilet (vitesse non contrôlé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ème 2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2 / Remédiation pour un élève qui éprouve des difficultés à réaliser une REC -10m (durée de remontée trop cou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"/>
          <p:cNvSpPr/>
          <p:nvPr/>
        </p:nvSpPr>
        <p:spPr>
          <a:xfrm>
            <a:off x="336600" y="6165720"/>
            <a:ext cx="8515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Vous disposez de 30 minutes pour préparer ces deux thè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343640" cy="8650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70c0"/>
                </a:solidFill>
                <a:uFillTx/>
                <a:latin typeface="Arial"/>
              </a:rPr>
              <a:t>Planning de la journ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09h0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Evaluation diagnostique (correc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09h3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urs magistral « Transmission des connaissances »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alisation de cours de pédagogie théori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0h2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éparation des thèmes de pédagogie prati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0h5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ccès aux vesti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1h0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ccès au bassin de 20 mèt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2h0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tour en salle pour débrie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12h30 à 13h20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EP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3h3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Travail sur la transversa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4h2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Préparation des thèmes de pédagogie prati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4h5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ccès aux vesti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5h0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ccès au bass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6h0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tour en salle pour débrie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17h00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omplément transversalité -Fin du stage – Bilan – Admi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6659640" y="2852640"/>
            <a:ext cx="1807920" cy="1882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898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La transmission des connaissances théor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quoi enseigner la théor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prévenir des risques liés à notre 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induire des comportements adaptés dans l’eau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Théorie doit être liée à la Pr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 se justifie que par son utilité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: On étudie la compressibilité des g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 prévenir les barotraumatismes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 les calculs d’autonomie en air (Niv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"/>
          <p:cNvPicPr/>
          <p:nvPr/>
        </p:nvPicPr>
        <p:blipFill>
          <a:blip r:embed="rId1"/>
          <a:stretch/>
        </p:blipFill>
        <p:spPr>
          <a:xfrm>
            <a:off x="7020000" y="4076640"/>
            <a:ext cx="192564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898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La transmission des connaissances théor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7564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aîtris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s connaissances théoriques mais aussi un devoir d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ualisation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re capable d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es connaissances qu’il es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trictement nécessai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dispenser aux plongeurs préparant un nivea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re capable d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tégr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s connaissances théoriques dans le cycle de séances d’apprenti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7404120" y="5445000"/>
            <a:ext cx="1442880" cy="92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85016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Identification des besoins théoriques pour des élèves préparant le Niveau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497800" cy="30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e que l’on vis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utonomi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Gestion de la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flottabil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enus des cours théorique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536920" cy="213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16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L’autonom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900000" y="1139760"/>
            <a:ext cx="7274160" cy="544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16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L’autonom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ortement en palanqué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de son autonomie en immersion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es paramètres de désaturation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rientation en plongé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naissance des accidents pouvant survenir en autonomie ou en encadrement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ortement approprié pour prévenir ces accident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naissance de la réglement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naissance de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396120" y="1413000"/>
            <a:ext cx="242388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898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70c0"/>
                </a:solidFill>
                <a:latin typeface="Arial"/>
              </a:rPr>
              <a:t>La flottabi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acité à bien se le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îtrise de son matéri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îtrise de l’utilisation de la Sta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stabilis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as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5651640" y="4179960"/>
            <a:ext cx="3241440" cy="2577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24000" y="4156200"/>
            <a:ext cx="4749480" cy="2577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50:35Z</dcterms:created>
  <dc:creator>Lucien</dc:creator>
  <dc:description/>
  <dc:language>en-US</dc:language>
  <cp:lastModifiedBy>FRANCOIS Jean-Brice</cp:lastModifiedBy>
  <cp:lastPrinted>2016-09-22T16:18:34Z</cp:lastPrinted>
  <dcterms:modified xsi:type="dcterms:W3CDTF">2018-10-05T12:49:14Z</dcterms:modified>
  <cp:revision>211</cp:revision>
  <dc:subject/>
  <dc:title>Stage pour obtention du Groupe de Compétences 4 GC4</dc:title>
</cp:coreProperties>
</file>